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57CD-2901-4D68-98E1-FEDF88A5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06D3-0977-408E-8660-7CB1CF55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7E2C-71A6-4A83-897A-BECD0D57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FF9E-F518-453B-9B58-2EBCE067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1878-A5AB-49AF-B8EE-9971AB29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4673-004E-4422-8758-6BECC66E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4AC-F323-4143-B66E-0CEA2B28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E51F-04CC-4523-8A3F-8547017E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A193-5569-4280-8324-25C2092C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1F8C-F036-4812-9276-03270DC6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9A1F-738C-4D50-AF0A-12239CF4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3A51-1360-432C-9C8E-92D34AAA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1604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86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2559-2A72-4AAF-B34E-530CD099A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240680" y="6629400"/>
            <a:ext cx="183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UNCLASSIFIED//FO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v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ire Challenge 2009 (EC09) Initiative Br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/Presente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85800"/>
                <a:tab algn="l" pos="143820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gram Overview                                             Airborne Overhead Cooperative 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295280"/>
            <a:ext cx="0" cy="51055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85800"/>
                <a:tab algn="l" pos="143820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gram Overview                                                             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44400" y="1341360"/>
            <a:ext cx="360" cy="1085760"/>
            <a:chOff x="644400" y="1341360"/>
            <a:chExt cx="360" cy="1085760"/>
          </a:xfrm>
        </p:grpSpPr>
        <p:sp>
          <p:nvSpPr>
            <p:cNvPr id="51" name=""/>
            <p:cNvSpPr/>
            <p:nvPr/>
          </p:nvSpPr>
          <p:spPr>
            <a:xfrm>
              <a:off x="644400" y="13413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4400" y="14446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4400" y="15476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4400" y="16509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4400" y="17524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4400" y="18558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4400" y="19591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4400" y="20620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0" y="3733920"/>
            <a:ext cx="4411800" cy="48708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61840"/>
                <a:tab algn="l" pos="1206360"/>
                <a:tab algn="l" pos="1535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bjective/Capability Thread Support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84120"/>
            <a:ext cx="6821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itiative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89556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1447920"/>
            <a:ext cx="434340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ganiz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C09 Spons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neral Description: ex: (Initiative) provides the capability to 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24480" y="4102200"/>
            <a:ext cx="441936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li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ition Pat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C09 Funding Stat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4029120"/>
            <a:ext cx="437832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ective(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pability Thread(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Capabiliti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12640" y="1949400"/>
            <a:ext cx="136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4400" y="3733920"/>
            <a:ext cx="47196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61840"/>
                <a:tab algn="l" pos="1206360"/>
                <a:tab algn="l" pos="1535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turity/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6320" y="217080"/>
            <a:ext cx="652320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09 Insertion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320" y="1449360"/>
            <a:ext cx="866772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ility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pecific EC09 Objective(s) does initiative sup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150480"/>
            <a:ext cx="6881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itiative Support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90320"/>
            <a:ext cx="8382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ts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quired/desired integration with othe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tprint/Logi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ocation, ground support req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(s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pecify which network to be connected 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quired RF sup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77480"/>
            <a:ext cx="66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09 Expected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390680"/>
            <a:ext cx="8382240" cy="10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390680"/>
            <a:ext cx="838224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52280" y="350532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56:32Z</dcterms:created>
  <dc:creator>william.poppert</dc:creator>
  <dc:description/>
  <dc:language>en-US</dc:language>
  <cp:lastModifiedBy>john.kittle</cp:lastModifiedBy>
  <dcterms:modified xsi:type="dcterms:W3CDTF">2008-04-25T17:40:07Z</dcterms:modified>
  <cp:revision>12</cp:revision>
  <dc:subject/>
  <dc:title>Slide 1</dc:title>
</cp:coreProperties>
</file>